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20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C6BB-BB14-4740-8E1C-0553C5F8EF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D5C7-C3CE-4D3F-8E32-4A255BC5B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7107-BA6D-4AFC-AC83-BF480FEA2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D567-FC2D-4FB2-B1D6-ADBF3A529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116E-A781-4497-9D76-920AA0EBF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541-7C30-456D-8660-62849F74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E273-1741-45CF-9698-05DC790A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9723-2F6E-458E-AFB4-42AF986F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924A-D0E5-4AB2-B1C6-C05CEC73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9F1D-9BAC-4D17-970F-E78DE2F8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AB44-1FA9-4B0A-A82A-27D21CCD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BAC4-1D1C-414C-B85F-0A88978C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D14A-DCCD-4098-90B9-D2E9B251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50D0-0CE0-438E-9B51-F532EFCD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BCFD-BAD6-4592-9DD6-85972C79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A67A-3832-41A3-8951-32261C53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5A7-2D24-4161-B313-BF8D78B3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A7C8-34E7-4B58-9FD3-3E6A5FE7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E373-1360-4DE3-8128-0F98B7BC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1B55-6CC4-4F2E-BE65-45271887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BCF8-1989-47FB-B137-3155C2D9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883E-39A0-4C02-8FDB-420981C7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528C6-4105-4DF4-8A4C-C64B90AF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B2079-8288-489E-8765-3524CE76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85627-2E17-4622-9F02-D8C84F70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94234-479E-40AE-B817-9AFF4917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86475-90CA-47C5-9373-2BA71B15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6A0F-A576-40F9-BB59-CABE0393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A6860-7B80-4607-BE1F-19097E47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E989E-8C93-4003-BF8B-B149F80D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BF61D-8C8B-40C5-908A-5AA0DC8B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90B1D-3480-45D9-9A05-B3F6BA0C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1113A-2A6E-4491-9AE2-439F06B0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11FAC-A8A1-4E07-9E8C-4BBB9064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65026-D2BE-428F-8BC7-32BB791F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48FAF-0EF9-4872-A629-1AEFABEF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28528-DD73-4CCF-9AD9-665BB1AD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319A3-C236-48C8-8A59-F75B7EE3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59B-B470-4F20-95A0-68EEC544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4F252-24AF-4665-A3B9-D2C54A34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9CB6C-B8A3-43AA-8B48-2804052F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DE548-DCB5-4DDE-B200-44A7CECE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F4183-4988-41FA-A98B-489660CE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BE7C5-9338-47BA-AAE2-C0ABB8EC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FBA01-3AE3-4535-BF54-773090E4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A4A24-F011-42C8-A252-151BB741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39236-23E4-4B4A-AA10-DAF33EA1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84686-50EB-41F8-85D3-A6CAF115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61D-7F99-4B00-B87E-0B92323B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E524-BE27-458D-A374-4F7F34B2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6D6F-D9FA-4E0E-8636-FACE57EE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889-2BDD-4B74-9A47-EC7EED45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2A0-98ED-4D79-BFFC-31B44639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DCEE-B588-4BD6-A6D9-A57227466326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669E-4100-428C-A2EE-33D9B415BEA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A142-835C-4502-9406-4D39FC3E34BD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BEE2-F3B0-4843-8E6F-5EB4708CD8D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B4CB-24E9-4363-AE9A-6DB8583DC308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4260-4AED-4312-B01F-19D199242E7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5B8E-2D9F-4509-839D-BE962E68C7CA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BEEB-D3D1-49E9-A647-499BE11992C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jpeg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restandards.org/the-standards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530280" y="895320"/>
            <a:ext cx="7858080" cy="23781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hode Island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Department of Educa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Fall 201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ELA: ANCHOR STANDARD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2"/>
          <a:srcRect l="16406" t="20487" r="14063" b="5119"/>
          <a:stretch/>
        </p:blipFill>
        <p:spPr>
          <a:xfrm>
            <a:off x="1741320" y="1935000"/>
            <a:ext cx="5661360" cy="438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457200" y="1935000"/>
          <a:ext cx="8229600" cy="17226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7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1c09"/>
                    </a:solidFill>
                  </a:tcPr>
                </a:tc>
              </a:tr>
            </a:tbl>
          </a:graphicData>
        </a:graphic>
      </p:graphicFrame>
      <p:pic>
        <p:nvPicPr>
          <p:cNvPr id="229" name="Picture 10" descr=""/>
          <p:cNvPicPr/>
          <p:nvPr/>
        </p:nvPicPr>
        <p:blipFill>
          <a:blip r:embed="rId3"/>
          <a:srcRect l="20448" t="40139" r="34275" b="48304"/>
          <a:stretch/>
        </p:blipFill>
        <p:spPr>
          <a:xfrm>
            <a:off x="533520" y="2057400"/>
            <a:ext cx="8076960" cy="14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457200" y="2438280"/>
          <a:ext cx="8229600" cy="2027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202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1c09"/>
                    </a:solidFill>
                  </a:tcPr>
                </a:tc>
              </a:tr>
            </a:tbl>
          </a:graphicData>
        </a:graphic>
      </p:graphicFrame>
      <p:pic>
        <p:nvPicPr>
          <p:cNvPr id="231" name="Content Placeholder 3" descr=""/>
          <p:cNvPicPr/>
          <p:nvPr/>
        </p:nvPicPr>
        <p:blipFill>
          <a:blip r:embed="rId4"/>
          <a:srcRect l="21950" t="51380" r="34692" b="35732"/>
          <a:stretch/>
        </p:blipFill>
        <p:spPr>
          <a:xfrm>
            <a:off x="533520" y="2590920"/>
            <a:ext cx="807696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457200" y="3276720"/>
          <a:ext cx="8229600" cy="22557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22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1c09"/>
                    </a:solidFill>
                  </a:tcPr>
                </a:tc>
              </a:tr>
            </a:tbl>
          </a:graphicData>
        </a:graphic>
      </p:graphicFrame>
      <p:pic>
        <p:nvPicPr>
          <p:cNvPr id="233" name="Picture 3" descr=""/>
          <p:cNvPicPr/>
          <p:nvPr/>
        </p:nvPicPr>
        <p:blipFill>
          <a:blip r:embed="rId5"/>
          <a:srcRect l="20832" t="63478" r="34924" b="21694"/>
          <a:stretch/>
        </p:blipFill>
        <p:spPr>
          <a:xfrm>
            <a:off x="533520" y="3429000"/>
            <a:ext cx="807696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457200" y="4800600"/>
          <a:ext cx="8229600" cy="1189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1c09"/>
                    </a:solidFill>
                  </a:tcPr>
                </a:tc>
              </a:tr>
            </a:tbl>
          </a:graphicData>
        </a:graphic>
      </p:graphicFrame>
      <p:pic>
        <p:nvPicPr>
          <p:cNvPr id="235" name="Picture 3" descr=""/>
          <p:cNvPicPr/>
          <p:nvPr/>
        </p:nvPicPr>
        <p:blipFill>
          <a:blip r:embed="rId6"/>
          <a:srcRect l="21330" t="77384" r="34987" b="16677"/>
          <a:stretch/>
        </p:blipFill>
        <p:spPr>
          <a:xfrm>
            <a:off x="533520" y="4952880"/>
            <a:ext cx="807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9097 L 0 -0.27986 E">
                                      <p:cBhvr>
                                        <p:cTn id="71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mbria"/>
              </a:rPr>
              <a:t>How to “talk” about the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mbria"/>
              </a:rPr>
              <a:t>ELA Standar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e Literacy Common Core Standards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mbria"/>
              </a:rPr>
              <a:t>as written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do not clearly articulate a set of codes with which to refer 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co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has been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velop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Aide in distinguishing Anchor Standards from Grade-Specific Standard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Ease of “conversation” about the standard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2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s necessary for “decoding” the co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Cracking the Literacy “CODE”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Strand Code Ke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Read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Standard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            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ading Standards for Literatur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ading Standards for Informational Text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ading Standards: Foundational Skill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            RF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ading Standards for Literacy in History/Social Studie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ading Standards for Literacy in Science &amp; Technical Subject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Writing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andards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riting Standards for Literacy in History/Social Studies,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H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cience, &amp; Technical</a:t>
            </a: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ubjec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Speaking &amp; Listening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andard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            S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Languag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Standard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How to read a Common Core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 ANCHOR Standard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.CCR.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905120" y="2590920"/>
          <a:ext cx="914400" cy="3715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tr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cxnSp>
        <p:nvCxnSpPr>
          <p:cNvPr id="243" name="Straight Arrow Connector 5"/>
          <p:cNvCxnSpPr/>
          <p:nvPr/>
        </p:nvCxnSpPr>
        <p:spPr>
          <a:xfrm>
            <a:off x="2895480" y="2819160"/>
            <a:ext cx="1067760" cy="2293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graphicFrame>
        <p:nvGraphicFramePr>
          <p:cNvPr id="244" name=""/>
          <p:cNvGraphicFramePr/>
          <p:nvPr/>
        </p:nvGraphicFramePr>
        <p:xfrm>
          <a:off x="2666880" y="4267080"/>
          <a:ext cx="3886200" cy="3715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ollege &amp; Career Readiness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cxnSp>
        <p:nvCxnSpPr>
          <p:cNvPr id="245" name="Straight Arrow Connector 9"/>
          <p:cNvCxnSpPr/>
          <p:nvPr/>
        </p:nvCxnSpPr>
        <p:spPr>
          <a:xfrm flipV="1">
            <a:off x="4645440" y="3277800"/>
            <a:ext cx="3960" cy="9151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graphicFrame>
        <p:nvGraphicFramePr>
          <p:cNvPr id="246" name=""/>
          <p:cNvGraphicFramePr/>
          <p:nvPr/>
        </p:nvGraphicFramePr>
        <p:xfrm>
          <a:off x="6248520" y="2895480"/>
          <a:ext cx="2590560" cy="6397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umber assigned to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cxnSp>
        <p:nvCxnSpPr>
          <p:cNvPr id="247" name="Straight Arrow Connector 13"/>
          <p:cNvCxnSpPr/>
          <p:nvPr/>
        </p:nvCxnSpPr>
        <p:spPr>
          <a:xfrm flipH="1" flipV="1">
            <a:off x="5257440" y="3123360"/>
            <a:ext cx="83880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graphicFrame>
        <p:nvGraphicFramePr>
          <p:cNvPr id="248" name=""/>
          <p:cNvGraphicFramePr/>
          <p:nvPr/>
        </p:nvGraphicFramePr>
        <p:xfrm>
          <a:off x="1523880" y="3962520"/>
          <a:ext cx="6477120" cy="192060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eading                  College &amp; Career Readiness Anch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raft &amp; Structur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6.  Assess how point of view on purpose shapes the 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nd style of a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How to read a Common Core 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Reading Standard</a:t>
            </a:r>
            <a:r>
              <a:rPr b="0" lang="en-US" sz="4000" spc="-1" strike="noStrike">
                <a:solidFill>
                  <a:srgbClr val="04617b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Cambria"/>
              </a:rPr>
              <a:t>(grade-specific standard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RI.4.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905120" y="3429000"/>
          <a:ext cx="914400" cy="3715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tr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4191120" y="4572000"/>
          <a:ext cx="914400" cy="3715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Gra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257800" y="2514600"/>
          <a:ext cx="3581280" cy="37152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umber  assigned to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cxnSp>
        <p:nvCxnSpPr>
          <p:cNvPr id="254" name="Straight Arrow Connector 7"/>
          <p:cNvCxnSpPr/>
          <p:nvPr/>
        </p:nvCxnSpPr>
        <p:spPr>
          <a:xfrm>
            <a:off x="2895120" y="3580920"/>
            <a:ext cx="122004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5" name="Straight Arrow Connector 9"/>
          <p:cNvCxnSpPr/>
          <p:nvPr/>
        </p:nvCxnSpPr>
        <p:spPr>
          <a:xfrm flipH="1">
            <a:off x="5028480" y="2894400"/>
            <a:ext cx="1220040" cy="686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6" name="Straight Arrow Connector 12"/>
          <p:cNvCxnSpPr/>
          <p:nvPr/>
        </p:nvCxnSpPr>
        <p:spPr>
          <a:xfrm flipV="1">
            <a:off x="4645440" y="3810960"/>
            <a:ext cx="3960" cy="686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graphicFrame>
        <p:nvGraphicFramePr>
          <p:cNvPr id="257" name=""/>
          <p:cNvGraphicFramePr/>
          <p:nvPr/>
        </p:nvGraphicFramePr>
        <p:xfrm>
          <a:off x="1600200" y="3886200"/>
          <a:ext cx="6095880" cy="2239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3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Reading Informational                                      Grade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Key Ideas &amp; Details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           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3. Explain events, procedures, ideas or concepts 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               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 historical, scientific, or technical text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               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including what happened and why, based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               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pecific information in the text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How to Read a Common Core 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Writing Standard </a:t>
            </a:r>
            <a:r>
              <a:rPr b="0" lang="en-US" sz="3200" spc="-1" strike="noStrike">
                <a:solidFill>
                  <a:srgbClr val="04617b"/>
                </a:solidFill>
                <a:latin typeface="Cambria"/>
              </a:rPr>
              <a:t>(grade-specific standard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W.5.1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828800" y="3429000"/>
          <a:ext cx="914400" cy="3715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tr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038480" y="4648320"/>
          <a:ext cx="914400" cy="3715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Gra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257800" y="2362320"/>
          <a:ext cx="3581280" cy="63972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umber &amp; Letter  assigned to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cxnSp>
        <p:nvCxnSpPr>
          <p:cNvPr id="263" name="Straight Arrow Connector 7"/>
          <p:cNvCxnSpPr/>
          <p:nvPr/>
        </p:nvCxnSpPr>
        <p:spPr>
          <a:xfrm>
            <a:off x="2819520" y="3580920"/>
            <a:ext cx="121968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4" name="Straight Arrow Connector 9"/>
          <p:cNvCxnSpPr/>
          <p:nvPr/>
        </p:nvCxnSpPr>
        <p:spPr>
          <a:xfrm flipV="1">
            <a:off x="4494600" y="3735000"/>
            <a:ext cx="2520" cy="83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5" name="Straight Arrow Connector 11"/>
          <p:cNvCxnSpPr/>
          <p:nvPr/>
        </p:nvCxnSpPr>
        <p:spPr>
          <a:xfrm flipH="1">
            <a:off x="5028840" y="2970720"/>
            <a:ext cx="1905840" cy="6102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graphicFrame>
        <p:nvGraphicFramePr>
          <p:cNvPr id="266" name=""/>
          <p:cNvGraphicFramePr/>
          <p:nvPr/>
        </p:nvGraphicFramePr>
        <p:xfrm>
          <a:off x="1523880" y="4114800"/>
          <a:ext cx="6096240" cy="2408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40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Writing                                                                        Grade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Write opinion pieces on topics or texts, supporting a point of view with reasons and inform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.   Introduce a topic or text clearly, state an opinion, and create an organizational structure in which ideas are logically grouped to support the writer’s purpos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How We Achieve an ANCHOR Standard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2"/>
          <a:srcRect l="16406" t="20487" r="14063" b="5119"/>
          <a:stretch/>
        </p:blipFill>
        <p:spPr>
          <a:xfrm>
            <a:off x="1371600" y="1447920"/>
            <a:ext cx="6553080" cy="49035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5"/>
          <p:cNvSpPr/>
          <p:nvPr/>
        </p:nvSpPr>
        <p:spPr>
          <a:xfrm>
            <a:off x="380880" y="3276720"/>
            <a:ext cx="838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3.  Analyze how and why individuals, events, and ideas develop and interact over the course of a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k-2 RL 001 - Copy (2)"/>
          <p:cNvPicPr/>
          <p:nvPr/>
        </p:nvPicPr>
        <p:blipFill>
          <a:blip r:embed="rId3"/>
          <a:stretch/>
        </p:blipFill>
        <p:spPr>
          <a:xfrm>
            <a:off x="304920" y="2057400"/>
            <a:ext cx="8610480" cy="317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k-2 RL 001 - Copy"/>
          <p:cNvPicPr/>
          <p:nvPr/>
        </p:nvPicPr>
        <p:blipFill>
          <a:blip r:embed="rId4"/>
          <a:stretch/>
        </p:blipFill>
        <p:spPr>
          <a:xfrm>
            <a:off x="304920" y="2666880"/>
            <a:ext cx="8534160" cy="2779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25"/>
          <p:cNvSpPr/>
          <p:nvPr/>
        </p:nvSpPr>
        <p:spPr>
          <a:xfrm>
            <a:off x="304920" y="23623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9" descr="k-2 RI 001 - Copy"/>
          <p:cNvPicPr/>
          <p:nvPr/>
        </p:nvPicPr>
        <p:blipFill>
          <a:blip r:embed="rId5"/>
          <a:stretch/>
        </p:blipFill>
        <p:spPr>
          <a:xfrm>
            <a:off x="304920" y="3200400"/>
            <a:ext cx="8534160" cy="371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7"/>
          <p:cNvSpPr/>
          <p:nvPr/>
        </p:nvSpPr>
        <p:spPr>
          <a:xfrm>
            <a:off x="304920" y="28954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formationa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1" descr="3-5 RI 001"/>
          <p:cNvPicPr/>
          <p:nvPr/>
        </p:nvPicPr>
        <p:blipFill>
          <a:blip r:embed="rId6"/>
          <a:srcRect l="0" t="17997" r="899" b="10102"/>
          <a:stretch/>
        </p:blipFill>
        <p:spPr>
          <a:xfrm>
            <a:off x="304920" y="3733920"/>
            <a:ext cx="8534160" cy="30456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5"/>
          <p:cNvSpPr/>
          <p:nvPr/>
        </p:nvSpPr>
        <p:spPr>
          <a:xfrm>
            <a:off x="304920" y="4038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3-5RL 001"/>
          <p:cNvPicPr/>
          <p:nvPr/>
        </p:nvPicPr>
        <p:blipFill>
          <a:blip r:embed="rId7"/>
          <a:stretch/>
        </p:blipFill>
        <p:spPr>
          <a:xfrm>
            <a:off x="304920" y="4343400"/>
            <a:ext cx="8610480" cy="5144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7"/>
          <p:cNvSpPr/>
          <p:nvPr/>
        </p:nvSpPr>
        <p:spPr>
          <a:xfrm>
            <a:off x="304920" y="48006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formationa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" descr="3-5 RI 001 - Copy"/>
          <p:cNvPicPr/>
          <p:nvPr/>
        </p:nvPicPr>
        <p:blipFill>
          <a:blip r:embed="rId8"/>
          <a:stretch/>
        </p:blipFill>
        <p:spPr>
          <a:xfrm>
            <a:off x="304920" y="5105520"/>
            <a:ext cx="8534160" cy="585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6-8 RL 001 - Copy"/>
          <p:cNvPicPr/>
          <p:nvPr/>
        </p:nvPicPr>
        <p:blipFill>
          <a:blip r:embed="rId9"/>
          <a:stretch/>
        </p:blipFill>
        <p:spPr>
          <a:xfrm>
            <a:off x="304920" y="1752480"/>
            <a:ext cx="8610480" cy="320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6-8 RL 001 - Copy (2)"/>
          <p:cNvPicPr/>
          <p:nvPr/>
        </p:nvPicPr>
        <p:blipFill>
          <a:blip r:embed="rId10"/>
          <a:stretch/>
        </p:blipFill>
        <p:spPr>
          <a:xfrm>
            <a:off x="304920" y="2362320"/>
            <a:ext cx="8534160" cy="4730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1" descr="6-8RI 001 - Copy"/>
          <p:cNvPicPr/>
          <p:nvPr/>
        </p:nvPicPr>
        <p:blipFill>
          <a:blip r:embed="rId11"/>
          <a:stretch/>
        </p:blipFill>
        <p:spPr>
          <a:xfrm>
            <a:off x="304920" y="3124080"/>
            <a:ext cx="8534160" cy="4636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17"/>
          <p:cNvSpPr/>
          <p:nvPr/>
        </p:nvSpPr>
        <p:spPr>
          <a:xfrm>
            <a:off x="304920" y="2819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formationa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304920" y="2057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4" descr="9-12 RL 001 - Copy - Copy"/>
          <p:cNvPicPr/>
          <p:nvPr/>
        </p:nvPicPr>
        <p:blipFill>
          <a:blip r:embed="rId12"/>
          <a:stretch/>
        </p:blipFill>
        <p:spPr>
          <a:xfrm>
            <a:off x="304920" y="3733920"/>
            <a:ext cx="8610480" cy="3283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25"/>
          <p:cNvSpPr/>
          <p:nvPr/>
        </p:nvSpPr>
        <p:spPr>
          <a:xfrm>
            <a:off x="304920" y="39625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6" descr="9-12 RL 001 - Copy"/>
          <p:cNvPicPr/>
          <p:nvPr/>
        </p:nvPicPr>
        <p:blipFill>
          <a:blip r:embed="rId13"/>
          <a:stretch/>
        </p:blipFill>
        <p:spPr>
          <a:xfrm>
            <a:off x="304920" y="4343400"/>
            <a:ext cx="8610480" cy="39996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7"/>
          <p:cNvSpPr/>
          <p:nvPr/>
        </p:nvSpPr>
        <p:spPr>
          <a:xfrm>
            <a:off x="304920" y="46483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formationa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8" descr="9-12 RI 001 - Copy"/>
          <p:cNvPicPr/>
          <p:nvPr/>
        </p:nvPicPr>
        <p:blipFill>
          <a:blip r:embed="rId14"/>
          <a:stretch/>
        </p:blipFill>
        <p:spPr>
          <a:xfrm>
            <a:off x="304920" y="5029200"/>
            <a:ext cx="8534160" cy="3906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0" descr="6-12 H-SS - Copy"/>
          <p:cNvPicPr/>
          <p:nvPr/>
        </p:nvPicPr>
        <p:blipFill>
          <a:blip r:embed="rId15"/>
          <a:stretch/>
        </p:blipFill>
        <p:spPr>
          <a:xfrm>
            <a:off x="304920" y="4191120"/>
            <a:ext cx="8610480" cy="3902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2" descr="6-12 H-SS - Copy (2)"/>
          <p:cNvPicPr/>
          <p:nvPr/>
        </p:nvPicPr>
        <p:blipFill>
          <a:blip r:embed="rId16"/>
          <a:stretch/>
        </p:blipFill>
        <p:spPr>
          <a:xfrm>
            <a:off x="304920" y="4800600"/>
            <a:ext cx="8610480" cy="58572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8"/>
          <p:cNvSpPr/>
          <p:nvPr/>
        </p:nvSpPr>
        <p:spPr>
          <a:xfrm>
            <a:off x="172800" y="54100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iteracy for Science and Technical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4" descr="6-12 S&amp; TS - Copy"/>
          <p:cNvPicPr/>
          <p:nvPr/>
        </p:nvPicPr>
        <p:blipFill>
          <a:blip r:embed="rId17"/>
          <a:stretch/>
        </p:blipFill>
        <p:spPr>
          <a:xfrm>
            <a:off x="304920" y="5715000"/>
            <a:ext cx="8610480" cy="6066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9"/>
          <p:cNvSpPr/>
          <p:nvPr/>
        </p:nvSpPr>
        <p:spPr>
          <a:xfrm>
            <a:off x="228600" y="4495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iteracy in History/Social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228600" y="3657600"/>
            <a:ext cx="8686800" cy="764280"/>
          </a:xfrm>
          <a:prstGeom prst="rect">
            <a:avLst/>
          </a:prstGeom>
          <a:solidFill>
            <a:srgbClr val="990000"/>
          </a:solidFill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iteracy in History/Social Studies, Science and Technical Su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6667 E">
                                      <p:cBhvr>
                                        <p:cTn id="306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1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-0.00417 -0.29051 E">
                                      <p:cBhvr>
                                        <p:cTn id="435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85185E-006 L 0 -0.28218 E">
                                      <p:cBhvr>
                                        <p:cTn id="437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022E-016 L -0.00416 -0.29583 E">
                                      <p:cBhvr>
                                        <p:cTn id="439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85185E-006 L -0.00417 -0.28218 E">
                                      <p:cBhvr>
                                        <p:cTn id="44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 -0.28403 E">
                                      <p:cBhvr>
                                        <p:cTn id="443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1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n your own…then report o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ich course(s) are you thinking of checking/revising for transition alignment to the Common Cor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 you need to read one or more standards more carefully?  Or are you ready to begin examining the syllabus you’ve brough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ding—Writing—Speaking/Listening—Language and Appendices A, B and C (on flashdrive or online, if neede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 out current thinking/questions in 20-25 minu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  </a:t>
            </a: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Common Core State Standards</a:t>
            </a:r>
            <a:r>
              <a:rPr b="0" lang="en-US" sz="5000" spc="-1" strike="noStrike">
                <a:solidFill>
                  <a:srgbClr val="04617b"/>
                </a:solidFill>
                <a:latin typeface="Cambria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mbria"/>
              </a:rPr>
              <a:t>The Standards define the knowledge and skills students should have within their K-12 education careers so that they will graduate from high school able to succeed in entry-level, credit-bearing academic college courses and in workforce training programs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mbria"/>
              </a:rPr>
              <a:t>K-12 Stand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Mathema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English Language Ar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(Reading, Writing, Speaking &amp; Listening, Languag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Includes: </a:t>
            </a:r>
            <a:r>
              <a:rPr b="0" i="1" lang="en-US" sz="2300" spc="-1" strike="noStrike">
                <a:solidFill>
                  <a:srgbClr val="000000"/>
                </a:solidFill>
                <a:latin typeface="Cambria"/>
              </a:rPr>
              <a:t>Literacy in History/Social Studies, Science, and Technical Subjects, 6-12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The Common Core State Standards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Are aligned with college and workforce expectation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Are clear, understandable and consisten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Include rigorous content and application of knowledge through high-order skill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Build upon strengths and lessons of current state standard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Are informed by standards in other top performing countries, so that all students are prepared to succeed in our global economy and society; 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Are evidence-bas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Common Core: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 English Language Arts Standard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1731960" y="1935000"/>
          <a:ext cx="5680080" cy="438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1960" y="1935000"/>
                    <a:ext cx="568008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ELA: Design &amp; Organ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ree Se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K-5 (cross-disciplinar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6-12 English Language 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6-12 Literacy in History/Social Studies, Science, &amp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echnical Subjec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ree Append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: Research and evidence; gloss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: Reading text exemplars; sample performance tas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: Annotated student writing s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Available at: </a:t>
            </a:r>
            <a:r>
              <a:rPr b="0" lang="en-US" sz="1900" spc="-1" strike="noStrike" u="sng">
                <a:solidFill>
                  <a:srgbClr val="e2d700"/>
                </a:solidFill>
                <a:uFillTx/>
                <a:latin typeface="Cambria"/>
                <a:hlinkClick r:id="rId2"/>
              </a:rPr>
              <a:t>http://www.corestandards.org/the-standards</a:t>
            </a:r>
            <a:r>
              <a:rPr b="1" lang="en-US" sz="1900" spc="-1" strike="noStrike">
                <a:solidFill>
                  <a:srgbClr val="009dd9"/>
                </a:solidFill>
                <a:latin typeface="Cambr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ELA: Design &amp; Organ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 Strand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PEAKING &amp; LISTE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ELA: Design &amp; Organ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 Strands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(continued)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295280" y="3200400"/>
          <a:ext cx="2590920" cy="143208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158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mbria"/>
                        </a:rPr>
                        <a:t>K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Inform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Foundational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486400" y="3200400"/>
          <a:ext cx="2514600" cy="14320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158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mbria"/>
                        </a:rPr>
                        <a:t>6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Inform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(Literary nonfi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048120" y="5105520"/>
          <a:ext cx="3200400" cy="115884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mbria"/>
                        </a:rPr>
                        <a:t>6-12 Literacy in Content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Inform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(Content Specifi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ELA: Design &amp; Organ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 Strands </a:t>
            </a: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(continued)…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201"/>
              </a:spcBef>
              <a:buClr>
                <a:srgbClr val="0f6fc6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rit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45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Argument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45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Informative/explanatory text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45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Narrativ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45880">
              <a:lnSpc>
                <a:spcPct val="90000"/>
              </a:lnSpc>
              <a:spcBef>
                <a:spcPts val="2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peaking and Listen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45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Comprehension and collabora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45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Presentation of knowledge and idea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2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Languag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45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Knowledge of languag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45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Vocabulary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ELA: Design &amp; Organ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ollege and Career Readiness (CCR) ANCHOR Stand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road expectations consistent across grades and content are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ased on evidence about  college and workforce training expect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2"/>
          <a:srcRect l="16406" t="20487" r="14063" b="5119"/>
          <a:stretch/>
        </p:blipFill>
        <p:spPr>
          <a:xfrm>
            <a:off x="4648320" y="2571840"/>
            <a:ext cx="40384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20:53:03Z</dcterms:created>
  <dc:creator>carnpa</dc:creator>
  <dc:description/>
  <dc:language>en-US</dc:language>
  <cp:lastModifiedBy>Diane Kern</cp:lastModifiedBy>
  <cp:lastPrinted>2012-11-05T02:36:12Z</cp:lastPrinted>
  <dcterms:modified xsi:type="dcterms:W3CDTF">2012-11-05T21:08:26Z</dcterms:modified>
  <cp:revision>227</cp:revision>
  <dc:subject/>
  <dc:title>Slide 1</dc:title>
</cp:coreProperties>
</file>